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0FA0-BD5D-4BD7-A6C5-A07ADFA797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ИПЫ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Цели: Дать понятия ионной, ковалентной, металлической, водородной хим.связ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лицей №18 учитель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линина Л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6B3C-C741-483F-9E99-F28D78DEFE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11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0350-123F-4D8B-BDA7-D01B1F340C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ВИДЫ КОВАЛЕН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ПОЛЯРНАЯ                               НЕПО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12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2C0-2C13-48ED-BF0E-F8EB205804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полярной и неполяр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EDCB-7118-4D6D-B793-14169F0588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валентная полярная связь образуется между атомами различных неметалло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Схема образования ковалентной полярной связ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+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C2AA-39B6-4CD2-A72B-C005C8E2D9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МАЗ(С), КРЕМНИЙ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КВАРЦ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состоят из атомов, связанных друг с другом в бесконечный трехмерный карк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ный каркас обладает высокой пр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ы твердые, тугоплавкие, без запаха, в воде нераствори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DD04-94CC-43F0-B785-964E943112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 УЗЛАХ – НАХОДЯТСЯ МОЛЕКУ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УДЕРЖИВАЮТСЯ СЛАБЫМИ МЕЖМОЛЕКУЛЯРНЫМИ С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ЕЩЕСТВА ЛЕГКОПЛАВКИ, ЧАСТО ИМЕЮТ ЗАП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1145-CADD-4285-AEB5-211A527301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C037-B0BC-4163-8C7C-07FDFD6B4F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6750-B917-45D7-9500-36A59541FF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B422-73F3-4EBC-842D-FEB1A65DD3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 имеет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3B3A-C99F-4A00-A006-B2F3FF06DC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090D-EE89-4DDB-8ACE-25683577E7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0DA-7D7F-4709-BA71-FFF07FBA30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8C1B-7FBC-4410-8F61-8584C59A41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периоде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группе      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возра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САМЫЙ электроотрицательный элемент ф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E44D-110D-4DC3-A83E-5B124D5D8F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8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8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2ABA-E55D-48A5-8D92-3EDE808023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F374-3E59-4927-80CD-162F8CB3F1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507A-3F9F-4380-8DA2-8070CA6453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Medium"/>
              </a:rPr>
              <a:t>Физически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7527-9D12-46C0-93A0-F5008490D3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E5B-7568-4427-B1D6-9FE4D411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581-BFA4-4B8F-8893-4D6089F5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EFE-E604-40FA-A97F-7D577FE6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347-E5CB-4F62-AD69-FD94821E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B8DC-685C-44BF-BD03-9A4EC2A5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7598-28F9-4813-A77B-E9A74E35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D5F9-F237-47A4-B621-2222F261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33C1-DEFC-424B-AEA5-3020F556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7742-B81F-4549-9268-3D220703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207D-27E3-4003-923F-C38D79B3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F42E-8615-4871-9489-90085476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9A0-1F6E-4633-AE79-FC57B26D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3552-4BC3-48B9-959C-D3C29F51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78ED-AF1D-4C44-97E0-137448CD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831-ABC0-4F31-B23F-1A169CB9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8B39-5DF7-4F66-BFBC-74B52910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03AA-A3D7-4ADB-947A-5AC49BF0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637-52B2-4B8F-BC68-A3D6A7A5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507-98E8-42E3-8EF6-5A34D11B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E33-179C-44B9-8CAB-2B55A29F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819-68F4-477C-8CA0-839CDD7E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1AD-9431-48EC-9BD6-16765A5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316-A3DA-4C7F-A2D7-B49E6EA3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719-A5C1-4606-ABEB-6B2EB09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C0A5-941E-400E-833B-7FE0222AD5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85DB-C797-4EC4-9C28-6507B5A68B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ae8"/>
                </a:solidFill>
                <a:latin typeface="Arial"/>
              </a:rPr>
              <a:t>ТИПЫ ХИМИЧЕСКОЙ СВЯЗ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Цели: Дать понятия ионной, ковалентной, металлической, водородной хим.связ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МОУ лицей №18 учитель хим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Калинин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ВИДЫ КОВАЛЕНТ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ПОЛЯРНАЯ                               НЕПО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36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479600">
            <a:off x="2050560" y="1413000"/>
            <a:ext cx="648000" cy="1368360"/>
          </a:xfrm>
          <a:custGeom>
            <a:avLst/>
            <a:gdLst>
              <a:gd name="textAreaLeft" fmla="*/ 86760 w 648000"/>
              <a:gd name="textAreaRight" fmla="*/ 561240 w 648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20900400">
            <a:off x="5435280" y="155700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908000" y="357336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6804000" y="357336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разование полярной и неполярной связ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image3"/>
          <p:cNvPicPr/>
          <p:nvPr/>
        </p:nvPicPr>
        <p:blipFill>
          <a:blip r:embed="rId1"/>
          <a:stretch/>
        </p:blipFill>
        <p:spPr>
          <a:xfrm>
            <a:off x="684360" y="1484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валентная полярная связь образуется между атомами различных неметаллов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Схема образования ковалентной полярной связи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+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=H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ольга"/>
          <p:cNvPicPr/>
          <p:nvPr/>
        </p:nvPicPr>
        <p:blipFill>
          <a:blip r:embed="rId1"/>
          <a:stretch/>
        </p:blipFill>
        <p:spPr>
          <a:xfrm>
            <a:off x="1116000" y="4653000"/>
            <a:ext cx="6912000" cy="19587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МАЗ(С), КРЕМНИЙ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КВАРЦ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состоят из атомов, связанных друг с другом в бесконечный трехмерный карк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омный каркас обладает высокой пр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сталлы твердые, тугоплавкие, без запаха, в воде нерастворим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99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УЗЛАХ – НАХОДЯТСЯ МОЛЕКУ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ДЕРЖИВАЮТСЯ СЛАБЫМИ МЕЖМОЛЕКУЛЯРНЫМИ СИ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ЩЕСТВА ЛЕГКОПЛАВКИ, ЧАСТО ИМЕЮТ ЗАП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00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ОДОРОД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66ff33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image3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38890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8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88e4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image3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Механизм образования водородной связи имеет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ольга1"/>
          <p:cNvPicPr/>
          <p:nvPr/>
        </p:nvPicPr>
        <p:blipFill>
          <a:blip r:embed="rId1"/>
          <a:stretch/>
        </p:blipFill>
        <p:spPr>
          <a:xfrm>
            <a:off x="1258920" y="3284640"/>
            <a:ext cx="7488360" cy="3573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6a84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33cc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af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периоде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группе      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возраст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АМЫЙ электроотрицательный элемент ф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067280" y="35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851280" y="386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16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e1ff"/>
                </a:solidFill>
                <a:latin typeface="Franklin Gothic Medium"/>
              </a:rPr>
              <a:t>Физические свой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2:53:37Z</dcterms:created>
  <dc:creator>Ludmila</dc:creator>
  <dc:description/>
  <dc:language>en-US</dc:language>
  <cp:lastModifiedBy>LEGION</cp:lastModifiedBy>
  <dcterms:modified xsi:type="dcterms:W3CDTF">2015-05-01T11:00:51Z</dcterms:modified>
  <cp:revision>11</cp:revision>
  <dc:subject/>
  <dc:title>ТИПЫ ХИМИЧЕСКОЙ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